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907588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0D15-FDAD-46B7-B89C-D16E43C7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8BC4-A04E-4CBD-B895-408C5758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CDC1-7257-40C9-9B74-380BAEEE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7D61-1C59-46F2-9CC0-9158B3EF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C80E-64A1-4619-B893-5FBE655E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609-21B8-4997-869E-C0A7E4D2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94E7-ED60-43F2-B689-AEE360E2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281C-231B-4129-9816-CD4ED19F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5C5F-5B7B-4CAB-8948-82CB81D7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F2A1-E0FB-468F-888D-14BA3B7C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32AA-229A-43B3-9E73-1693996C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97C4-4D8D-4BB3-AD2B-0E2E962F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8DD6-C3A5-4053-B354-A82895ABE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1125000"/>
            <a:ext cx="842004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итання реалізаці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-го етапу реформування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ринку електричної енергії</a:t>
            </a:r>
            <a:br>
              <a:rPr sz="2000"/>
            </a:b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5440" y="3716280"/>
            <a:ext cx="92170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. Рогозін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іце-президент НАК «Енергетична компанія України»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ерівник робочої групи за напрямком “Економічні засади функціонування ОРЕ та його розвитку”  Міжвідомчої комісії з координації роботи, п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язаної з реалізацією положень Концепції функціонування і розвитку ОРЕ Украї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1D77-5524-4132-B9C7-210DE4EB32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0520" y="274680"/>
            <a:ext cx="88502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укціон (1/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5440" y="1267920"/>
            <a:ext cx="89218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Аукціон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– купівля-продаж електроенергії на РДД в організований спосіб. Передбачається  використовувати аукціон разом з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вільною торгівлею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(укладанням прямих двосторонніх договорів купівлі-продажу електроенергії між  виробниками і постачальникам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оцільність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аукціон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безпечує прозоре і чесне ціноутворенн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дає чіткі цінові індикатори для сектору вільної торгівлі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понукає “обережних”  учасників і сприяє збільшенню обсягів продажу на РДД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нижує індивідуальні ризики втрат, у т.ч.  від недобросовісних учасникі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легкий моніторинг з боку НК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Недоліки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укціону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мови купівлі-продажу обмежуються стандартними умовами, що обмежує коло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ожливих учасників і уго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CDF3-1A5A-49E0-A4D0-873150E9AB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4680"/>
            <a:ext cx="89218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укціон (2/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125000"/>
            <a:ext cx="89218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Умови аукціону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, що пропонують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рганізація і проведення - ДП “Енергоринок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оведення - щоквартально, на 1-2 аукціонах – на квартальні, потім також на піврічні термін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укціон передує компанії укладання прямих двосторонніх договорів в секторі вільної торгівлі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часть в аукціоні – за умови наявності відповідних ліцензій, членства в Пулі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часть виробників - об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ков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опозиції виробників - в обсягах не менше визначеної НКРЕ частки встановлених кво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становлення НКРЕ мінімальних резервованих цін виробникі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явки постачальників – в межах їх кредитних гаранті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оргівля – обмеженою кількістю стандартних продуктів, по кожному з яких визначатиметься окрема ці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о результатах аукціону укладатимуться двосторонні  договори купівлі продажу електроенергії кожного виробника з кожним постачальником в обсягах, пропорційних задоволеним індивідуальним заявкам та пропозиціям за єдиними рівноважними цінами по кожному продукт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бсяг не проданої виробниками на аукціонах електроенергії може реалізовуватись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 секторі вільної торгівл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бсяг частки квот виробників для реалізації на аукціоні пропонується поступово зменшува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FD5D-DBD4-4569-B2F9-839275C9C4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921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укціон. Модель і механізм провед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0520" y="1268280"/>
            <a:ext cx="3456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Обрана  модель аукціону – </a:t>
            </a: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фіксінг з висхідною ціною, </a:t>
            </a: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який реалізується наступним чином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в першому турі організатор аукціону декларує мінімальну ціну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за декларованою ціною постачальники та виробники подають свої заявки та пропозиції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в кожному наступному турі  організатор збільшує декларовану ціну з визначеним кроком, поки сума заявок постачальників не відповідатиме сумі пропозицій виробникі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Переваги </a:t>
            </a: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 моделі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швидке навчання учасників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максимізація обсягів продаж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44880" y="1341360"/>
            <a:ext cx="5688000" cy="455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159A-7898-434C-BB3A-79835F9C31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5800" y="274320"/>
            <a:ext cx="89949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оделювання Пулу та РД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5800" y="1197000"/>
            <a:ext cx="89949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рішення задач регулювання потребує розробки адекватної і достатньо детальної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моделі спільної роботи Пулу і РДД,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яка враховуватиме особливості реалізації існуючого Пулу (зокрема ціноутворення згідно Правил ОР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 оптимальному випадку модель для заданої комбінації регуляторних рішень та інших вхідних даних (балансу електроенергії, графіків споживання, рівня тарифів АЕС, ГЕС, оптової ринкової ціни, тощо) має давати грунтовні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оцінки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ожливих обсягів, графіків та цін продажу електроенергії на РДД (по галузях та категоріях споживачів, що матимуть стимули переходити на РДД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езультатів роботи (прибутку) виробників та постачальників в Пулі та РДД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чутливості вихідних даних до вхідн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Користувач моделі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- НК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ризначення моделі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– інструмент  для нормативного і поточного регулювання Пулу та РД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оделюванням певної кількості варіантних вхідних даних може бути визначена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область можливих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регуляторних рішень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(з точки зору обраних принципів регулювання)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Оптимальне регуляторне рішення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має вибиратись в області можливих рішень за додатковими умов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ьністю  (найменшою чутливістю до вхідних даних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кономічною, політичною або психологічною прийнятніст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юридичною або нормативною простотою реалізації тощ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CDBA-6690-4B20-973A-3AA6A9AD89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921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исн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 наявності очевидних переваг поступового процесу реформування ОРЕ, етапний процес впровадження механізмів нового ринку створює і деякі нові проблеми.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окрема, співіснування на 1-2 етапах існуючого ринку (Пулу) і ринку двосторонніх договорів (РДД) потребує їх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спільного регулювання,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що є новою і складною задачею, рішення якої потребує детального моделювання спільного функціонування обох ринк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Основні завдання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егулювання спільної роботи Пулу та РДД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робка нормативного та договірного забезпечення РДД та внесення змін до існуючого нормативного та договірного забезпечення Пулу (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нормативне регулювання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оточне регулюванн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улу та РД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За умови якісного регулюванн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перехідні етап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формування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ринку є здійсненни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907E-43F5-4812-A426-53ADE80008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9820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прощена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хема взаємовідносин в існуючому Пу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28760" y="1197000"/>
            <a:ext cx="8982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38160" y="1052640"/>
            <a:ext cx="8077320" cy="4991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587760" y="2637000"/>
            <a:ext cx="78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слуги з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редач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657600" y="3141720"/>
            <a:ext cx="57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C7DB-5FEF-4828-A121-DBDACC0A49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9400" y="274680"/>
            <a:ext cx="8901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прощена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хема взаємовідносин в Пулі та РДД на 1 етапі реформ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760" y="1197000"/>
            <a:ext cx="8982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38280" y="1125360"/>
            <a:ext cx="8677080" cy="5089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371760" y="2565360"/>
            <a:ext cx="75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слуги 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реда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ч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297240" y="314172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13960" y="4581360"/>
            <a:ext cx="86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Ел.енергі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94A6-92A5-4920-9B93-3E3B5ADF84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9400" y="274320"/>
            <a:ext cx="8901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егуляторне забезпечення  1-го етапу реформування ри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0520" y="1341360"/>
            <a:ext cx="41767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Основні принцип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обровільність РДД для всіх учасник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бмеження зростання середніх роздрібних цін на електроенергію внаслідок впровадження РД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ільша привабливість (додаткова в порівнянні з Пулом середня прибутковість (маржа)) РДД для всіх груп учасників (постачальників, споживачів, АЕС, теплових генераці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півставність маржі  різних груп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часників РД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побігання завдання окремими учасниками ринку шкоди іншим учасник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провадження, по можливості, починаючи  з простіших механізмі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1125360"/>
            <a:ext cx="417672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Спеціальні регуляторні рішення (важелі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мір квот виробників для РД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ритерії кваліфікації споживачів, яким дозволятиметься постачати електроенергію на РД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івень і порядок компенсації в РДД інфраструктурних платежі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івень і порядок врахування в Пулі платежів за потужність і маневреність по договорах в РД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івень і порядок визначення плати за небаланси по договорах в РД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івень і спосіб обмеження надприбутку «дешевих» виробник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укці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CADB-BCEE-4DAD-9896-F6818E83CD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9400" y="274320"/>
            <a:ext cx="89010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воти виробників. Кваліфікація споживач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2520" y="1125000"/>
            <a:ext cx="91378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Квоти виробників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ля РДД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озволені обсяги відпуску (продажу) в РДД окремих виробників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На першому етапі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пропонується встановлювати кво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неруючих компан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ТЕС, НАЕК «Енергоатом» та ТЕЦ, які зараз працюють за ціновими заявками (АК «Київенерго» та ВАТ «ХТЕЦ-5»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ля інших ТЕЦ – за умови внесення до правил ОРЕ змін щодо накладання штрафних санкцій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 небаланс при погіршенні їх графіку продажу в Пу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ля ГЕС (ВАТ «Укргідроенерго») - наприкінці етап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Кваліфікація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поживачів – встановлення вимог (критеріїв), виконання яких дає право на купівлю електроенергії в постачальників за нерегульованим тарифом (ПНТ), які куплятимуть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лектроенергію в РД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поживачі матимуть можливість безпосередньо ставати учасниками РДД та Пулу за умови отримання ними в установленому порядку ліцензії ПНТ, регістрації та виконання інших вимог Пулу та РД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опонується встановити єдиний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критерій кваліфікації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споживачів - наявність погодинного обліку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 можливістю зберігання даних, що дозволи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е обмежувати права споживачів відносно існуючого Пулу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ширити коло споживачів, що матимуть стимули до закупівлі, збільшити попит на РДД та оптимізувати розподіл маржі в РД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ажаний ступінь відкриття ринку регулюватиметься в цьому випадку лише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шляхом встановлення квот виробник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2840-A26B-4F00-B0CA-C3D3063D8E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5800" y="274320"/>
            <a:ext cx="89949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омпенсація в РДД інфраструктурних витр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2520" y="1052640"/>
            <a:ext cx="9137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Інфраструктурні витрати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ринк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трати електроенергії в магістральних та міждержавних мережах НЕК “Укренерго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трати НЕК “Укренерго” на диспетчеризацію і експлуатацію магістральних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а міждержавних мереж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трати ДП “Енергоринок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цільові надбавки до оптової ринкової ціни, зокрема збір у вигляді цільової надбавки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о тарифу на електричну та теплову енергі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отаційні сертифікати на компенсацію збитків постачальників за регульованим тарифом від постачання електроенергії певним категоріям споживачі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пенсаційні платежі, п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язані з існуванням системи “єдиних” тариф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ормативні втрати електроенергії в розподільчих мережах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трати на передачу електроенергії розподільчими мереж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скільки за результатами моделювання, повна компенсація в РДД всіх інфраструктурних платежів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е відповідає 3 принципу регулювання – забезпеченню більшої відносної привабливості РДД, пропонуєть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глянути можливість регулювання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рівня компенсації в РДД дотаційних сертифікатів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нші інфраструктурні витрати компенсувати в РДД повніст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6C0E-C2D7-497B-81F8-7B383B21E2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921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рахування в Пулі платежів за потужність і маневреність 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 договорах в РДД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5800" y="1341000"/>
            <a:ext cx="89949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трати на резервування потужності та регулювання по договорах в РДД в кінцевому випадку мають повністю компенсуватись цінами РДД, що відповідатиме правильному розподілу витрат між Пулом і РДД та відображатиме реальну диференціацію погодинної ці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 1-2 етапах реформування диспетчеризація виробників виконуватиметься в Пулі за існуючими Правилами ОРЕ, без урахування обсягів продажу в РДД.   При цьому в Пулі залишатимуться існуючі платежі за потужність і маневрені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ля посилення стимулів виробників, що працюють в Пулі за ціновими заявками, продавати електроенергію в РДД, консультантами запропонована можливість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часткової компенсації в Пулі плати за потужність по договорах в РД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Часткова компенсація в Пулі плати за потужність по договорах в РДД безпосередньо впливає на середній тариф в Пулі виробників, що працюють за ціновими заявками, їх ціну пропозиції на РДД, перерозподіляючи прибуток цих виробників між Пулом та РД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налогічно може розглядатись і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часткова компенсація в Пулі плати за маневреність по договорах в РД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057-D540-4DD0-8516-0B74872F08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921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лата за небаланси по договорах в РД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4160" y="1052640"/>
            <a:ext cx="45370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Можливі небаланси</a:t>
            </a: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по договорах в РДД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Небаланс виробників</a:t>
            </a: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 – перевищення в певні години доби законтрактованого на РДД виробником обсягу продажу електроенергії над фактичним  загальним відпуском цього виробника за даними приладів</a:t>
            </a:r>
            <a:br>
              <a:rPr sz="1300"/>
            </a:b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погодинного обліку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Небаланс постачальників</a:t>
            </a: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 - погодинна різниця (дефіцит або надлишок) між законтрактованими ПНТ в РДД обсягами купівлі електроенергії та її фактичними обсягами купівлі за даними приладів погодинного облік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До впровадження окремого балансуючого ринку (етап 2 реформування)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лату за </a:t>
            </a: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небаланси по договорах в РДД</a:t>
            </a: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 пропонується розраховувати і сплачувати в Пулі за наступними правилами: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плату за небаланси розраховувати виходячи</a:t>
            </a:r>
            <a:br>
              <a:rPr sz="1300"/>
            </a:b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з  прогнозної погодинної ОРЦ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враховувати платежі за небаланси при розрахунку фактичної погодинної ОРЦ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плату за небаланс виробників  (від’ємного відпуску в Пул) визначати за прогнозною погодинною ОРЦ і враховувати як зниження платежу за відпущену в Пул електроенергію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плату за небаланс постачальників сплачувати (отримувати) в межах їх відносин</a:t>
            </a:r>
            <a:br>
              <a:rPr sz="1300"/>
            </a:b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з оператором ринк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881600" y="1484280"/>
            <a:ext cx="4751280" cy="41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F8CC-3707-4B20-A08D-5898781429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2880" y="259920"/>
            <a:ext cx="936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бмеження надприбутку в РДД “дешевих” виробни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8520" y="948960"/>
            <a:ext cx="89218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Надприбуток “дешевих” виробників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(АЕС і ГЕС) на РДД п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язаний із значно меншою собівартістю виробництва електроенергії цих виробників в порівнянні з іншими (ТЕС, ТЕЦ). Його наявність не відповідає 4 принципу регулювання – співставності маржі різних груп учасників ринку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Обмеження надприбутку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може бути реалізовано шляхо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регування платежу “дешевого” виробника в Пулі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бмеження частки купівлі на РДД електроенергії “дешевих” виробник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Обмеження частки купівлі на РДД електроенергії “дешевих” виробників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-  спосіб торгівлі на РДД з умовою об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язкової купівлі ПНТ певної мінімальної частки електроенергії в “дорогих” виробників (ТЕЦ та генеруючих компаній ТЕС), наприклад 50 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еалізація можлива шляхом встановлення відповідної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умови регістрації в Пулі обсягів договорів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в РДД на розрахунковий пері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2887-8075-45BA-9C96-4AB395198F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4:07:43Z</dcterms:created>
  <dc:creator>Rogozin</dc:creator>
  <dc:description/>
  <dc:language>en-US</dc:language>
  <cp:lastModifiedBy>Punina</cp:lastModifiedBy>
  <dcterms:modified xsi:type="dcterms:W3CDTF">2008-09-21T10:00:49Z</dcterms:modified>
  <cp:revision>161</cp:revision>
  <dc:subject/>
  <dc:title>Питання реалізації   1-го етапу реформування  ринку електричної енергії</dc:title>
</cp:coreProperties>
</file>